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B7FCF49-CCC5-4ED4-80AA-DC9F2566C1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93616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3D5F41-4419-4B16-AE09-910A454A5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0CD5E00-A9AC-479F-8F4C-16BBDD0756F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1525119-B1C1-4701-8AC2-4303007C49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172AEBA-AE29-4002-8174-DFBED02F5C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500F563-FE26-44F5-8028-321E8E50477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7D90FA9-84A6-40E4-90F5-D7B6A54AAEB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F111DBB-DB4F-4D05-BB80-8FF55701AE0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439E3A4-DD59-4172-B21D-9CF989A731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E479B32-A1F6-4A09-8CE0-4A5630C9EE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52DA-F0B9-41F1-9D80-D7EFD513158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5B61-F8A7-4BF3-810B-E9176502DD0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9EAC-ED87-4567-8B7E-1372ABE5D5F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D9D6-16D6-4325-BC0A-51B6327A1FC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Placeholder 5" descr=""/>
          <p:cNvPicPr/>
          <p:nvPr/>
        </p:nvPicPr>
        <p:blipFill>
          <a:blip r:embed="rId3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3"/>
          <p:cNvSpPr/>
          <p:nvPr/>
        </p:nvSpPr>
        <p:spPr>
          <a:xfrm>
            <a:off x="4413240" y="6411960"/>
            <a:ext cx="20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ersonal Software Process 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for Engineers: Part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6085080" y="6450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Approved for public release 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6C45-17E4-43E8-ABB0-8556850724F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B5AC-F6CE-4122-8BD7-254C4EA96AF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3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3793-4F6E-4EA7-BD6D-D29AB8BD78B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610D-B857-4C28-AC35-CAB45231B23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3"/>
          <p:cNvSpPr/>
          <p:nvPr/>
        </p:nvSpPr>
        <p:spPr>
          <a:xfrm>
            <a:off x="4184640" y="640872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Title of the Presentation Goes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724360" y="6411960"/>
            <a:ext cx="341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This material has been approved for public release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ittsburgh, PA 15213-3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Introduction to PSP and TSP - </a:t>
            </a:r>
            <a:fld id="{4E2CA412-77EC-4FD1-A169-02A3216339B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38240" y="176184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ersonal Software Process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r Engineers: Part I</a:t>
            </a:r>
            <a:br>
              <a:rPr sz="31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torial: Using PSP1.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6068520" y="176832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695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Plan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rcRect l="76922" t="19741" r="1532" b="60442"/>
          <a:stretch/>
        </p:blipFill>
        <p:spPr>
          <a:xfrm>
            <a:off x="2075040" y="3262320"/>
            <a:ext cx="3116160" cy="23209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30160" y="15951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task order menu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date the task and schedul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task order for the selected task or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rcRect l="1205" t="9229" r="5513" b="53479"/>
          <a:stretch/>
        </p:blipFill>
        <p:spPr>
          <a:xfrm>
            <a:off x="958680" y="3355920"/>
            <a:ext cx="7610760" cy="24638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730160" y="15951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lanned hours for each schedule week must be ente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data are calculated automatical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 and schedule planning templates are not required for small programs, but are helpful for longer ta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1.1 gives you insight into your historical performance (CPI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torial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this tutorial, you w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new elements of PSP1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 how to use the PSP1.1 scripts and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prepared to use PSP1.1 for program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1.1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ives of PSP1.1 are to introduce and practice methods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ing resource and schedule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ing your performance against these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dging likely project completion 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Process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two new process el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 planning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dule planning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are typically used for projects that take several days or wee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are not required for the PSP exerci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ject plan summary has been expanded to include basic process statistic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1.1 Project Plan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1"/>
          <a:srcRect l="1644" t="17802" r="42526" b="68136"/>
          <a:stretch/>
        </p:blipFill>
        <p:spPr>
          <a:xfrm>
            <a:off x="2251080" y="4734000"/>
            <a:ext cx="4494240" cy="16621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30160" y="15951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ummary section has been expanded to inclu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ed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ual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Re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New Reus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values are calculated automatical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Definition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ed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: planned development time for thi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-Date: sum of planned development time for all completed projects + thi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ual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ual: actual development time for thi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-Date: sum of actual development time for all completed projects + thi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Performance Index (CP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-Date planned time / To-Date actual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Definition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Reused: percentage of reused size for thi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used / Total * 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New Reusable: percentage of new reusable code developed for thi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Reusable / Added and Modified * 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and Schedule Pl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 and schedule plans are used to estimate when work will be comple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s are entered on the task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task in 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ed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ual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e task comple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dule hours are entered on the schedule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ed hours for each schedule we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ual hours for each schedule we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Plan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" descr=""/>
          <p:cNvPicPr/>
          <p:nvPr/>
        </p:nvPicPr>
        <p:blipFill>
          <a:blip r:embed="rId1"/>
          <a:srcRect l="1485" t="8855" r="1532" b="54996"/>
          <a:stretch/>
        </p:blipFill>
        <p:spPr>
          <a:xfrm>
            <a:off x="934920" y="3933720"/>
            <a:ext cx="7194600" cy="21718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30160" y="15951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hases of each project are automatically added to the task plan when the project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the actual date completed needs to be entered, the other data are automatically calcul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4:11Z</dcterms:modified>
  <cp:revision>139</cp:revision>
  <dc:subject/>
  <dc:title>No Slide Title</dc:title>
</cp:coreProperties>
</file>